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F3D-5CEB-4369-B3C1-D2E14D94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8C00-5372-43A7-84A9-2B0BF798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994B8-3B1B-44F0-B745-B68FCBDD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09988-C913-4129-B56C-46037B87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E692A-E1A1-4F09-8B4F-B0E663A2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598FD-1151-4614-8D91-3B4303E5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C8A02-C9D1-448D-AA7A-858FE063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A5EC8-9287-432F-BFF7-31CACD1E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E6D10-BE6A-45E3-A54A-7A1AC019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35DDA-5E21-408F-9748-D61F019A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A4B24-0898-4BA7-9FB1-50A66500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34824-3CED-46D6-84CE-173F56C0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737-385B-4E6F-8A41-B9AB4A54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6F5E3-F6B5-41A4-B0DF-A3CA572E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CC8D0-FCC2-4AA3-8206-57AC13FB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F1768-4B3E-49A7-B17F-AA96C222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30006-DACD-42B5-9CD2-01EB9F89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91C89-9AF8-4D28-8854-BC0B21F9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5BD3E-E0F1-406A-BC01-4EFA88A1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2CD45-2579-4F83-8D0C-5A479976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63E3C-5CCC-4DDC-9D6D-53799016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28C5C-C08E-43E3-A776-C8A396D0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3EBC1-6B84-40BF-8672-2369AA30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0E0B-FECF-471B-BB4A-D1BCBD94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DFBD7-36D9-45CF-9269-0F347D08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6964B-DF98-4781-8468-EAD44B55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47AF5-A42E-45DA-8CDD-C54C09DC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12B22-1ECE-4F82-830B-404FCF17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809A1-EAAC-4DB5-AB22-B43D9B8A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8F715-C5CF-4551-A450-8E13A8C3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11017-23BF-4B87-959C-F5010DE4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A5617-B2F4-47BE-A897-DE7E4937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0A7E7-0583-40D7-8A6D-5A44F222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42200-A3AC-43D9-B3B9-72A04F04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58BF-E84D-4546-9890-94411430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8C83E-2A10-4C30-B61A-4FB9050D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CF034-B68B-4C5E-87F2-CC0AA3CD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65D4C-5A8D-4F01-9469-8A22607B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8954B-9796-4D48-AF6E-A569744D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34808-8A65-47EE-85FC-58C5F01C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F759A-F2F3-4891-8C79-A3AE614C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025FB-C8BB-4877-B46C-E02F6DB8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E2C2F-4B09-4119-836C-B7B90710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B4FA6-2F05-474C-9F02-2465AE7E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FC450-2DA6-431A-B9AD-3D0206FD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0ECF-F6C9-4039-8279-775DE3D4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5FBA2-4644-4523-820A-3DFBF603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B1013-7F5A-42AE-A6D5-D5C4BF13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4FBF8-A196-4EAD-A20B-131D1C1E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463D2-2B9F-4D4E-91C1-EB9EFF3C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EDE50-ABD7-4949-837A-368A8A04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F9DE-C05B-4546-83BF-812AB1C1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BB18-1B0B-443A-BC3E-756561BF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B80B-4DF5-4E8B-9E63-8B55DC36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288A-683A-4859-B19D-BB1463B6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CD21-BE34-4B94-946B-DE6B85B5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FDD2-8887-4F15-9D0B-961111E5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08FD-F6D7-4ABD-914A-1A3192C6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4676-003A-487E-80C5-1DD87EDC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1877-C1E4-495A-BFB9-5DF1427F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409C-D373-49C2-8FE6-B1EB685E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B2AE-E0E0-4983-AC41-0BBC70F2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F3B69-2EB9-46CE-8DCB-EE452A32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93078-78A2-4BB4-8898-13F0C42E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61FEA-E341-482D-B278-0FC87824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85E0C-1789-40F8-8ABA-A3794D8C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14F5B-17EA-4B73-A99E-D97F7904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160-6B24-4C5E-A9B5-9A897ADF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10280-A9B9-4204-9E04-51887131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F75F8-D1EE-4D72-A3F1-3163A38A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5F175-A709-40E0-B50D-3D9783B0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7EBE7-171B-4CA0-ABF0-8E53DE62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E4405-0EA7-480E-A5ED-CE34EBE3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C773C-C472-4890-9506-4C2FEA32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D58AE-9C46-4E78-8CD1-58982944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BEF20-E637-45F6-B137-232D85A7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0AF74-5D9F-4572-8076-D86C0D77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4F179-E5BD-4FE1-806F-71A21FB2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BA54-CB29-4DC5-AB80-5E8E846D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2C5FC-7D82-4B82-A030-29FDE750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BE60C-B919-4210-B190-1AECEF2A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80C87-D40C-4695-B5D3-D3BC1321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6DA65-8EE2-42AD-AEAB-97504D1A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E8F2A-9E8A-4ABC-994E-65925AFD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E4E2C-99CC-45E4-834D-BF024040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63CA8-2A8E-497B-BD83-556B41A5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8D769-7666-4C3B-8B22-6872DC5E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848FB-5CCD-479B-A94D-45D3F7DC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10A87-9BF0-4F49-B4E3-72F48F99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22AF-9C3D-4235-88D6-4BDA23AE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CDA00-645B-4B80-9529-31648B07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3990E-6E37-45C5-988C-ABF97171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0B504-37A2-4393-8592-079E87EE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5773E-9B4A-4C38-A796-0BD67BF5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169A3-E5A6-4249-ACA5-DBA71986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F9DDF-2DA6-44F3-83D5-E15945C6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755EB-EC74-4093-991B-58FD29AB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3242A-C26C-4B0B-B577-91EC9465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BB04E-5FAC-4144-A0BF-5CCCB995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7D8ED-80F0-4E2E-B5BC-BEDFACCB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C00-023F-4DD9-85AB-99F1ACE4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DA401-703D-471F-8069-A155F047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0B7D8-16BD-4AB3-8A43-CEF70D31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708AC-CA01-4E05-BD0D-480A030E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56CB4-0BD1-42DB-9442-61552F8F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3187F-15DC-4D54-87CD-C4BFF43D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BCE1C-BF81-483D-9C23-57605DCD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9C403-CE1C-4305-A380-47CEF76D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5C9D9-80F5-41EA-BBDC-14509B71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FE464-62C1-497B-835B-FA921BFE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48554-4031-4915-A86F-06EB202A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142-3DD5-458E-B752-AF5E1C10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63D9B-2286-4C57-B2D2-DE62F968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4AF97-FA49-40E0-B622-4D14121F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1BE6B-3EB7-45E9-8661-74E1575E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11D11-3F3A-4BC9-B8AA-011D89BA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7E1D3-6774-431D-9EE9-BBCD5F9D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B3488-A0A7-40FB-BAEC-1C7EA3EA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CC64E-8DD4-46BA-8596-DD121B32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17D0C-A2A8-44ED-8D99-7F7C7380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45ABF-5ACB-47D9-B9AB-6981107D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23377-806D-4FE3-BC62-3F4DD13A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B8F0-E5E9-434B-8D1D-F940A334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3982F-1161-4DA7-808B-4F1B2576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2DC5E-F193-49C6-92E1-B2BBD714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A1FC8-2C3C-428C-851E-086B62C7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F02DA-23E5-4302-9ECB-B3C414D1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B0341-755D-4B84-90B0-6671E3FA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58769-0B57-42A3-A07F-44FD9690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18B0A-6512-42A0-B60F-E08F0207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47DE9-41B6-423E-A017-1779A406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4A90A-4053-46C2-BCD8-A05AA8F5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05B6C-2339-42AA-95FE-D71B84F7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58E-D183-4F7F-A808-231AD1A8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724F1-EF81-4BED-8007-BB978F33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0914F-0E5B-4B12-B091-76105C60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4A293-8EFF-42B1-8F0D-FB3A2D62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63594-F736-4BF7-B7B1-DC1FC906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DEDE9-B582-4BB0-B27C-135B0B30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585BD-BD9F-4725-8471-D0F2A60C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45B31-DBF6-45AD-98B5-2A1C6A93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DFF5B-3644-4F1B-A5AD-5A0CB74D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1990B-9F63-4D05-9FC4-7CE1FC78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8579A-E6EC-44D4-8F7C-1C41BA38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E7EC-2CC6-4B85-BC46-83B35EAA0BC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AAC2-388A-422F-85C9-30B60C77F6B0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7BC1-D1B8-4EE8-9F42-95F8AFCF7FF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4BB1-84EE-4DB5-A919-AD6934B426B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2702-C3EA-43FC-B3F2-94DC4FB294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5D1B-4181-4883-9558-3E8DBEF03B1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1F43-64B1-4EEE-87D9-525E9BD9979C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F733-4B8E-40AD-97EF-B10FFB99D64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1EC9-44CC-4716-863D-E13542DB362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65A8-50E2-4E14-928F-E8273095EDF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B13B-9A14-4AA2-B784-161149E91B6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D820-101F-49ED-A4D6-83B26EBF7AC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87 Náš chválospev nech zaz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Náš chválospev nech zaznie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na slávu Pánovi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že k nemu prístup máme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jak deti k Otcov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nad všetkým on vlád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ečnú slávu má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ždy rád nás vypočuj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s láskou prijí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 hriech a našu zlobu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yn Boží zomier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c prešiel bránou hrobu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mocne zmŕtvychvs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Bol Pánom v sláve Otc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al ľudskú podobu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bez reptania znášal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j našu chudob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 ňom vždy máme spie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vzdávať jemu česť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jeho meno vzývať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blížnych k nemu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vierou spásu víta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je v Božej ochran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pomoc pre boj žiti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d neho dost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en vrúcne Pána chváľm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ým je čas milost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raz velebiť ho mám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o večnej r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Kto vyzná Spasiteľa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pred ľuďmi na zemi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en chválu jemu vďačn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á aj pred anjelmi.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4:05:19Z</dcterms:modified>
  <cp:revision>90</cp:revision>
  <dc:subject/>
  <dc:title>Je veľký náš Pán, on slávy je Kráľ Nech do všetkých strán  spev vrúcnych znie chvál.</dc:title>
</cp:coreProperties>
</file>